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C5960C8-9C82-4266-89C3-CBB29DA9AD9D}"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F79E394-4EEF-4BFB-92B8-C1B5626C1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884320" y="514440"/>
            <a:ext cx="3375360" cy="2571840"/>
          </a:xfrm>
          <a:prstGeom prst="rect">
            <a:avLst/>
          </a:prstGeom>
          <a:ln w="0">
            <a:noFill/>
          </a:ln>
        </p:spPr>
      </p:sp>
      <p:sp>
        <p:nvSpPr>
          <p:cNvPr id="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336D178-9D15-4463-BB0F-D4AB75180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E37F8-0720-4C16-BF6D-654A46626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D0B0-FF43-44F1-99B1-6A2DDDB4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86748-835C-41CF-BB65-109690DBB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52903-D79F-4A6F-A2C3-2E2F71C32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F991-49A1-4842-8B26-6F38F1EE0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FF954-A3C5-4B93-9519-509D428B6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C406F-527E-47A5-ABD8-4954B19E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7EF4A-F483-4B29-A5CD-9FE059CD0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BB283-39C3-4F5B-93D5-BCAE8CD8E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2807C-DB49-4FE6-98D4-EDCCAEC2F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22AEE-CCC2-469A-8F43-F32B7BB9F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9864B-E5B6-47B4-BED0-E6CDCE5CD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145388E-951B-43B2-A1A5-3BB3604505B2}" type="datetime">
              <a:rPr b="0" lang="en-US" sz="1300" spc="-1" strike="noStrike">
                <a:solidFill>
                  <a:srgbClr val="898989"/>
                </a:solidFill>
                <a:latin typeface="Calibri"/>
              </a:rPr>
              <a:t>07/29/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D7E4B73-3521-452D-A407-E5432001BB14}"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0402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0" y="762120"/>
            <a:ext cx="2666880" cy="14353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Grammar)</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7 sentences using your spelling words.  Draw a line under the naming part of the sentence.</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Ex. </a:t>
            </a:r>
            <a:r>
              <a:rPr b="0" lang="en-US" sz="1200" spc="-1" strike="noStrike" u="sng">
                <a:solidFill>
                  <a:srgbClr val="000000"/>
                </a:solidFill>
                <a:uFillTx/>
                <a:latin typeface="Comic Sans MS"/>
              </a:rPr>
              <a:t>The dog</a:t>
            </a:r>
            <a:r>
              <a:rPr b="0" lang="en-US" sz="1200" spc="-1" strike="noStrike">
                <a:solidFill>
                  <a:srgbClr val="000000"/>
                </a:solidFill>
                <a:latin typeface="Comic Sans MS"/>
              </a:rPr>
              <a:t> ran out of the gate.)</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8004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a:t>
            </a:r>
            <a:r>
              <a:rPr b="1" lang="en-US" sz="1200" spc="-1" strike="noStrike">
                <a:solidFill>
                  <a:srgbClr val="000000"/>
                </a:solidFill>
                <a:latin typeface="Comic Sans MS"/>
              </a:rPr>
              <a:t>Synonyms</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Find and write a word that has the same or nearly the same meaning as the words listed.  Use a thesaurus to help you.</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Ex. big  (gigantic)</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like, thin close, still, divide, pretty</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160800" y="4952880"/>
            <a:ext cx="3279600" cy="302004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Phonic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Categorize spelling words into 3 groups:  short e, o, and u vowel sound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Ex. Fox     wet    nu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job     net    hug</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192204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response-journal entry about a story that you are reading.  Write the date of the entry.  Tell the name of the story.  Tell your opinion of the story.  Give examples of your opinion from the story.  Tell whether or not you would recommend the story to a friend.</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t>
            </a:r>
            <a:r>
              <a:rPr b="0" i="1" lang="en-US" sz="1500" spc="-1" strike="noStrike">
                <a:solidFill>
                  <a:srgbClr val="000000"/>
                </a:solidFill>
                <a:latin typeface="Calibri"/>
              </a:rPr>
              <a:t>Julius.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Parent</a:t>
            </a:r>
            <a:endParaRPr b="0" lang="en-US" sz="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Initials:________________</a:t>
            </a:r>
            <a:endParaRPr b="0" lang="en-US" sz="9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1:09:10Z</dcterms:created>
  <dc:creator> </dc:creator>
  <dc:description/>
  <dc:language>en-US</dc:language>
  <cp:lastModifiedBy>Mits Mits</cp:lastModifiedBy>
  <cp:lastPrinted>2009-09-16T11:26:52Z</cp:lastPrinted>
  <dcterms:modified xsi:type="dcterms:W3CDTF">2009-09-16T13:30:35Z</dcterms:modified>
  <cp:revision>15</cp:revision>
  <dc:subject/>
  <dc:title>Slide 1</dc:title>
</cp:coreProperties>
</file>